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he Changing Marketing Environ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127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he Uncontrollable Environ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is chapter takes an in-depth look at the uncontrollable marketing environment in Canada toda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Organizations cannot effect the marketing environment, instead they are affected by it.  Successful organizations spot trends in the environment and capitalise on these trend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he Environmental For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membering from Chapter 1, The uncontrollable factors includ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ocial Fo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Economic Fo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echnological Fo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ompetitive Fo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Regulatory Fo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he Environmental For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2193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Social Forc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Social forces relate to changes, and events that are occurring in society.  Key indicators of change are: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Demographic Shift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Demographics is a study/measure of peoples ages, sex, income levels, where they live, and ethnicity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Be aware or key terms such as Mature Housholds,  Baby Boomers, Generation X, Blended Families and Regional Marketing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Cultural Changes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Culture is a reflection of a societies shared values and Beliefs.  Attitudes are changing and so is the makeup of our society.  People are more conscious of Value and the Natural Environment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he Environmental For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Economic For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Economics deals with issues of income and expenditures in our society.  Key measures of change in economic conditions arise from changes in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 Canadian economy at large (macroeconomic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nsumer Inco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Gross Income - Taxes = Disposable Incom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Disposable Income - necessities = Discretionary Incom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he Environmental For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Technological Forc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Technology is changing faster than ever.  Witness how quickly your new computer will become obsolete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This rapid change poses quite a large challenge for many organization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See Social Media Slideshow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E-Busines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The Internet has made doing business anywhere &amp; anytime possible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he Environmental For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mpetitive For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ompetition refers to the number of alternatives a consumer has when buying a particular product or servic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re are varying degrees of competitive environmen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Monopoly - No Competition - only one sell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Oligopoly - Limited Competition - Two or three sell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Monopolistic Competition - Many sellers offering substitutable products (Coke, Pepsi, Orange Juice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ure Competition - Many sellers selling similar or same product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he Environmental For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omponents of Compet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arriers to Ent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Competition may affect a company’s ability to enter a market easily.  There may be many Barriers to Entry in place to limit the growth of competi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uppliers of raw material may help limit competition in an industry by refusing to sell to a new entran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Buyers of products may aid in limited competition by being reluctant to buy from an new entrant into the mark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Competitors may try to limit competition buy forcing new entrants out of the mark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Global Competition has helped to increase the overall level of competition.  Many companies are forming world-wide partnerships called Strategic Alliance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he Environmental For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294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gulatory For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Regulation is a basic set of rules/laws set down by either the industry in question (self-regulation) or by government that effects how that business operates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Most regulation is designed to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Protect Customers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Protect Competi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o stem off government imposed regulation, many industries have decided to self-regulat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nsumerism is a movement among consumers to fight for better protection from bad or corrupt business practices and bad produc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8T17:51:22Z</dcterms:created>
  <dc:creator>Debbie Vincent</dc:creator>
  <dc:description/>
  <dc:language>en-US</dc:language>
  <cp:lastModifiedBy>Tilley, Paul (C'ville)</cp:lastModifiedBy>
  <dcterms:modified xsi:type="dcterms:W3CDTF">2011-10-18T12:49:33Z</dcterms:modified>
  <cp:revision>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